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CAD6-FE2D-471C-9026-5C0969A54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C005-7090-40FE-9EB0-B96C3A9D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F08DA-20DD-4890-ACCF-9D3BEDF5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3B030-DAAD-4EEA-8595-A8020E5E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7C523-64E3-4AD1-B9C0-A7D4CAB7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67A05-C57E-4C72-B14C-29A12946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F4FFE-6F70-44DA-AC6F-CA73B1F2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E3863-B7CC-4349-AEAC-0FF9B753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5ABCB-1143-4C32-8403-9618970D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ECA96-043E-4BA3-BB5E-536DAB4CC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43F26-C965-4E4C-A286-6FAB1D678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A70A59-5790-4D0C-A346-909BEEE5E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3A4C-5558-4B9C-8DCD-4EA12BEFC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490A2-F224-4CF2-B446-0B32CF47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C92BB-58D9-463F-B1B7-049F51E6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A3D95-1AAA-4516-B849-298E2EE4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AD70F-845E-4CFB-92FD-6B323FE8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B6D20-FF06-4A5F-ADA1-321906BB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8266E-CA15-477D-8006-4BA1E10C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80187-BE86-496C-B8BD-7CFEF6A7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62CD3-078C-4614-A635-1373122A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88919-A15C-4237-9805-6E7DDF24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9DC5E1-2A14-445F-87D1-A2526C3B2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7FBA-64BE-4DF4-B8BF-C30219572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1A460-6CB8-44DD-AE76-BB84F583B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BC1E7F-D23E-4464-A41A-78784F419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C6EAE5-AB74-4581-B7CE-7C7919F3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41892-56DD-4506-86C3-E05AA63D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4D1995-79F8-44A4-9B46-C5720E93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C7A612-30E3-44A8-A087-DE726C31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6B7F1-6C22-4A15-A5E7-4B6C180A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246D5A-62AA-4B5A-81F9-72F5DE4C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360F94-AB83-436F-8540-95AA6776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BF7D5-3A3D-4DB5-921C-4E6B2EA1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EDD4-1828-41F0-B771-12FC4A0DD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4D95E2-22BA-47B1-93F8-D0C2014E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E2E9D2-D0A8-451E-AC08-48E431B52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2D1B7-6A3D-4501-9C85-0DBECD3DE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C253B-B987-42C8-9D17-C2F07BB88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934A5-2398-4A39-816E-C378658B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389DB-C8CB-447A-B3DD-0EA19BF1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A8C90-233F-499E-8EB8-76E403F1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7462B-2E7C-4066-BA27-5B90D676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047BE-A4EF-4DC0-BEA6-164CF64E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FF1C4-B6EE-4C1F-A6E9-39162F6D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8F39-8BCE-45FE-9343-CE62EFD5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911F4-61DA-436E-8152-73D76A4E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E54B6-38E1-4AA4-BB33-CE3EE965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541BD-E1DE-4FBE-B0EE-6C0AC264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D1012-83AC-4694-81D4-BD9B972E3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3384B-17C2-4D49-A267-855F12C4C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A9A051-BC1F-4240-8319-E69847908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62ABA0-1E1E-4FE7-836F-67391D5D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7B4425-6FBD-413D-A55C-325249AE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1039E9-B92B-4E33-9C60-3B996247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6FB7A0-83F7-4869-BA66-18063E49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8BEE-6150-4184-8395-D20FDC47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BEA753-0EFC-4C9F-AC7A-AB753796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8DCBE5-6AA8-432D-BE9E-CD3A2500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CF6C02-C3CC-456B-816B-5536085F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6A1564-9167-4A83-9327-50FB0C2E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A996AC-D642-4E9C-AD3B-81B80C80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6B0984-F9DA-4B1B-8B03-18FDE032B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275DEB-DBE8-463B-BCCE-CDAB0B2BB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FA57AB-CF31-4676-A808-5D37A7D9A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90FBDF-A7B9-4D20-A7C2-0F54A255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377B42-DDCE-4AD4-8EA5-F21F72F9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ECBB-57B4-4CB7-8AE1-B6BA1C61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D5995E-10C7-41CF-8112-3DF82E1D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DCE92A-670F-44A7-8C58-0F3A29E7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5CCB1D-AA6C-4879-B312-4F613C77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4A4EA1-E856-4C8E-B9CF-23959AE0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680B00-B5BC-417A-A7F8-EBACFBCC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A335F5-D98C-4286-97F5-429A27D1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23BA75-6DFC-4BE4-B945-79C0711B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4D401B-2AD4-4F6E-80F7-BDF7821F1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4573C9-4B3D-4DE3-81E3-6758FD5D9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328C6C-20B9-45BE-8D5F-B34E7FB7B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6DA1-AEE2-4A51-99B0-8347857A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B824B2-A6A8-491C-A1E2-20A7C6A6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85F6BB-A42B-456B-BE78-44B0A922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393E0A-A591-4638-882D-D22230CC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863E97-C152-448D-AA5D-AF6B8B4A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035CD2-83C7-4601-9B2E-84C18B3E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2B2DB0-67D7-48EF-883D-7A8E9C2D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192B90-E247-41F4-8329-851CDC0E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C97BAE-0983-4129-A0DA-191004DA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B49752-7CBA-40BA-8C7F-548749C7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63F020-D81A-492B-97CA-0EEA98316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2330-4910-4B6F-9D87-F28DFADC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DB1443-3E22-4363-8028-355191208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365DD6-1862-4B0D-9AF2-8474F162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444456-1763-4F71-9E9B-C6D43C86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544293-BC69-4997-A83F-05177B1B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62E0C2-6451-4D47-B89C-839644C1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6C10F0-3E49-48A8-A5B4-B243686D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B4D806-142F-4F6F-B1C3-57D57BBB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CC8A01-DD02-4B13-96DB-F3C94A19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153B0F-AEE3-4A32-8325-B3EDE824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85B5E1-6D43-4FA2-A61B-0C485FCF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A618-7EC1-4982-8EA0-1478AA2A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F7861D-7AEB-42C2-AFE8-D0F4D73A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B327E3-784E-444F-AFE3-19B8C0B00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E55A00-0B5B-4828-9E43-213AADC6D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05F0EA-E547-4F78-92D1-09C8F9955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8D81E9-0286-4A41-88AC-6D59D48B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602362-DB7C-40C3-A245-88047DB2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07E05C-6AAE-4B1F-A669-7543A19C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9B1D8B-823E-4084-9AC7-6880F97D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5CC35D-A656-4BA4-A4D6-D84CE596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86E5FC-8413-479B-A1DC-7576B56E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F9CF-83AF-4BC8-9B7C-9CEBC872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A714-8630-4BC3-BA31-971EB0BB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9183EE-486C-4A04-BFE4-6871B756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70B3CB-B11C-4AC9-9688-15B6023C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12D6B8-947C-4AD7-949A-F9CD39C3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1F0169-821A-4523-9C92-05BD833D9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FE045F-970B-46EF-9A99-4CF4A655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68412B-FEFC-4AE2-A4EC-314499A45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FF5F10-4EFD-4D36-A752-47916D3F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0F59DD-BC5B-4744-BA9F-D2D19BBF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56B1F2-7CEA-4CB6-A171-CEBF7D27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5FA79B-E219-4615-AFF6-655F7632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9752-12BF-4D98-BFBC-586BF9CD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FD31FD-C820-409E-982F-7D177DF1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AE8003-6D47-495F-A1CA-D1F68148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C90845-C670-40A7-AA19-195A40F3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AAD7E7-6E70-43F1-AE77-8CF934A0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18FBC0-00B9-4B8E-9903-F967CABE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5CB5B7-832F-4DAD-9A14-02BAF9689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0F5A62-67AE-44BE-80B6-803E9A74D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2C429F-4122-47C0-A45E-5853D5E5D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1A48F6-BCF4-42EE-9941-85D08868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AF250A-101C-4B35-9132-7E5FA0C7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3247-118E-48DA-9B66-44526261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DFE933-3472-4F40-808C-FCD959B4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B1CC46-8E08-4F54-BFE4-B47A3867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99B488-9526-4F79-9ABB-A460600C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FDC21A-5186-4E1F-9E40-A9E9A882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C86BF3-B093-4E8D-A39F-D6815B78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1561A1-9E92-4409-A7BC-A1596F19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8D107A-190A-4DC9-AD32-22A0199C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242E28-F241-4150-948B-B5E837DF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2D46E8-5575-426C-B1ED-AB6099C26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6BD86F-EEB4-48EE-80B4-204573F11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F7BF-3E57-4091-916C-DD92D3998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BF0284-9C89-4DCF-B79A-CA19814D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BE92AF-D707-4741-8B6A-979BFA77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768356-0E6F-41E8-9B6E-D7622737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74537D-6160-4AE8-BE4E-A6E233A0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DF7B81-2C7B-4EA3-B577-35ECF55E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D16BF0-CEDA-49AF-920C-0A4F06FF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C509FE-17D5-4F65-B3E3-2F85D9AA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A9F311-B933-4BF1-80A4-2C8314A2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6D50CD-39BC-4E3D-AA15-57F536BF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337D46-C04D-421D-9714-7C046C43A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8174-ADBE-4FF1-9B1D-2968A2758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BA939F-29EE-4FB4-8AC7-24534660C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7D76D2-6586-4DCF-BF4D-3F562044F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069E30-0892-4FD0-B13B-85344F71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61AFB8-FD6B-4BBD-BA3C-FCF903AB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26E81C-53F8-4543-9B33-CF004D28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891E6D-58A5-4858-BD13-31C61D92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C4FE1E-76E5-4682-A7FF-AF264207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3DDC01-AE64-4FAA-87C2-F5815E84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9B5BE9-6C9C-48C7-B51E-F774901C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028FF7-C0AC-4C03-A11E-1291B13E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E906FC-69DB-4D07-B34B-E482EEAA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8E01FC-A12A-4DAA-9CB7-6F42480C7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D386FB-F456-4ACF-87C2-A2A0DEDD0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6163-A2E5-4F50-8271-3BEB2584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BB22A-8F4B-4447-AED7-50DF8E48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B1E09-9378-4ABD-8B5C-A706869F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2E4DC-9096-4422-B888-6D78CBB2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F049-E8EF-49A7-8B86-C9309B16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7259F-1443-485E-AFC3-6447C7B6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EC50A-1D3A-4E0E-B6A5-3267F2E1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3407D-6C0F-4949-81D3-AEAB3C72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C96F5-CDC6-4AB8-925E-D2D2AD09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A188A-81F1-4AA9-852D-EF2DC3C4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BA4A9-8E0F-4075-95BD-2D677318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667B7-D50E-42DB-9615-7C048C64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BDD4C-FDEE-47C4-9636-4D8211877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F4DFA-E99F-4743-A615-7A510F6CC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585B6-F33E-46D7-83E8-14973419B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6FCC-672F-46F2-8EDC-23B1D87A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87CDF-6203-4904-8952-55E7152B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F2FBC-D301-4E12-9B11-19B8B7E1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13175-3253-4CE9-8E3D-EC2640D6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8767A-8B24-4F8B-A637-506107C0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54062-529B-4A3B-BFC1-9AB58272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F7397-4FDC-47A2-879F-F78C2A74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7E35E-6548-4D81-AE6F-2D2C639A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34902-CAE1-4469-AEC4-39DEE3D2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35A30-FE72-459D-8E2E-E34DECB5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7CF1E-39B7-4E5B-BD6F-BE1B9F1A9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8DD3-19D1-4385-8D43-DDB4FECD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07013-828E-4A8B-AAC6-840FE03CE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DCDB8-9ADC-4B15-8471-F7D9D5AC7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1E3E1-9BA8-49DE-9E48-14EF6620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AC870-5DF9-4E28-8C58-DE6A8B46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6B2E2-2799-48FB-8FE7-5D99CAB2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A5726-43C6-48A2-8AEB-C13E9B0B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6FA2E-363E-4907-94AC-15C28C80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EEA73-ED7B-46E4-969E-271AB1E8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53CD0-946A-456A-A943-CDA1352E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F189D-30BF-4FCC-B349-9BD94C09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F05A-ED5D-45A6-8F6E-CC52902E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9CE47-13C6-4A0C-A810-AFE5A3D9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231E8-A803-43E7-AE51-7FF6A98C3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A956A-A0B4-4D24-BA11-CA778D0EC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B25EB-B696-4DEB-85D0-70792734A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31CD3-7311-4388-BF9B-CC355E80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4A25D-5F4F-48D8-B56D-78DA1894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44971-1CCF-4A50-8EB0-EC2A93B2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49E87-5B82-40F1-BAF5-FFAD0A7F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7B7FE-6C93-487E-AA6F-B95B7863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43E44-821A-4DFA-85CB-6C3956E8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BA07-70F1-4CE5-BE22-90C90377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7E336-6647-4616-9225-6534375E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19D58-C15D-4FC3-BF9E-30F5DBA6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459E3-FA33-4750-8718-2AB0B587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D4EE3-A8D7-4FDE-871F-6D4526199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03C52-1DFC-40EB-A733-41B0D061F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38576-68F0-4D66-9870-75A3499DE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95A9E-CEB8-44E8-B161-6C2D9809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9D4EE-5AB3-4EDF-B401-38FFF6C6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E1A21-EE0E-4196-AE3D-7FEA7513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22400-6F2A-489A-A415-E294F100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34AA-42C5-450D-991A-F91D992A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8A970-C031-471C-BAA1-F4A66F12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BFBA1-FF1C-4F22-8C93-109944DA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0BA0D-6B28-4ADD-9BAB-D3F4B184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B5E2E-7D14-4A2F-9F0D-12C80C9F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F912D-AE07-4AAD-87AE-9233DCB6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57FF4-6F2E-4DB0-84FD-932C0B012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EC9CA-D3A3-4B5E-8E5A-539CD722D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3D4E7-C1E5-4703-B4C2-A5F1296F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40205-C07C-474E-9418-4577E0A7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42CBA-77D6-4585-9175-95653849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9B49-F46D-433B-8EEB-5FB8541641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2FA0-2656-47B5-99A3-DFF328CC49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FA97-8DC3-4669-9095-31E5E87226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7608-8C86-4128-B22F-4D927E5EF7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8E27-F2DA-4273-9148-C0BADFC2C9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61B6-AA48-4AA8-B44A-CD7E54644D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EE43-8840-4F50-95EE-1432CBF714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DFD7-859F-4A5D-A185-48D7028823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F945-102A-465E-96B0-7C359C4C63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5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6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07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09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1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2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5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1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497A-C9B0-4E73-B6C6-4D9F460BD0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A8B3-70D2-4C19-9BD8-3F82425AA6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67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68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4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A403-6AAB-409F-A92E-0E71A5554A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0A0A-18EC-4E90-ACD8-939AAD73E3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92AD-4FE1-4ACA-AD40-3AE99D233E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463C-2C35-4B15-BABF-443A0CBFB5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5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6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2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3B40-EE8A-42C6-824A-913BF1C4AB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A1F8-2360-4B77-92F1-7638293185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D674-EE23-4053-9793-0EC017B098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557C-26A9-4B4D-B5F6-CF33392749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3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4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68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67AF-C847-4DB8-9954-5A622FA55A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E95C-B869-42AF-803E-9298A1E27D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4711-2812-452B-9AA1-2372970E72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5813-9718-44F8-ADE2-E8270594AD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384D-2422-4250-9930-3B875A99C7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631C-4D23-4B64-B061-2D9A1B1117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59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0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1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2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4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5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7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68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69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5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E191-4613-4047-8D3E-61F28E5BD8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85C3-B835-450C-98AF-DE155CFCFA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078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6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28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4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9EF3-D9E9-4058-B221-ECF7B768E7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E884-4D81-45B9-813D-0477576BCB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0932-1C66-4AC2-9C95-A8E4C566E2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3BDC-241B-447C-8C9E-A0B379136E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3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4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5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1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148F-F99F-423F-A273-504F88132E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B9BD-D4F1-491F-98AF-D8E2B13F17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C8F3-841A-435F-9701-868E75CDFD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E4ED-57A3-4738-9044-23B7CE6FFA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FD51-876C-4E60-9AEC-4C52B83E65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AD57-2ABD-4673-98D1-C36B43A72D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5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67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1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7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8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89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4CA3-4844-4687-91CB-A97986090B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CDEA-495E-44D4-97FE-4BEEA9DB98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1" name="图片 2051" descr=""/>
          <p:cNvPicPr/>
          <p:nvPr/>
        </p:nvPicPr>
        <p:blipFill>
          <a:blip r:embed="rId1"/>
          <a:stretch/>
        </p:blipFill>
        <p:spPr>
          <a:xfrm>
            <a:off x="2814480" y="2389320"/>
            <a:ext cx="3515040" cy="895320"/>
          </a:xfrm>
          <a:prstGeom prst="rect">
            <a:avLst/>
          </a:prstGeom>
          <a:ln w="0">
            <a:noFill/>
          </a:ln>
        </p:spPr>
      </p:pic>
      <p:pic>
        <p:nvPicPr>
          <p:cNvPr id="1022" name="图片 2052" descr=""/>
          <p:cNvPicPr/>
          <p:nvPr/>
        </p:nvPicPr>
        <p:blipFill>
          <a:blip r:embed="rId2"/>
          <a:stretch/>
        </p:blipFill>
        <p:spPr>
          <a:xfrm>
            <a:off x="1047600" y="3691080"/>
            <a:ext cx="704880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0" name="图片 13313" descr=""/>
          <p:cNvPicPr/>
          <p:nvPr/>
        </p:nvPicPr>
        <p:blipFill>
          <a:blip r:embed="rId1"/>
          <a:stretch/>
        </p:blipFill>
        <p:spPr>
          <a:xfrm>
            <a:off x="324000" y="1576440"/>
            <a:ext cx="8496000" cy="370512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2"/>
          <a:stretch/>
        </p:blipFill>
        <p:spPr>
          <a:xfrm>
            <a:off x="812880" y="15573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3"/>
          <a:stretch/>
        </p:blipFill>
        <p:spPr>
          <a:xfrm>
            <a:off x="755640" y="3156120"/>
            <a:ext cx="504720" cy="44892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4"/>
          <a:stretch/>
        </p:blipFill>
        <p:spPr>
          <a:xfrm>
            <a:off x="826920" y="469584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6" name="图片 14337" descr=""/>
          <p:cNvPicPr/>
          <p:nvPr/>
        </p:nvPicPr>
        <p:blipFill>
          <a:blip r:embed="rId1"/>
          <a:stretch/>
        </p:blipFill>
        <p:spPr>
          <a:xfrm>
            <a:off x="409680" y="1938240"/>
            <a:ext cx="8324640" cy="298152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2"/>
          <a:stretch/>
        </p:blipFill>
        <p:spPr>
          <a:xfrm>
            <a:off x="755640" y="211608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3"/>
          <a:stretch/>
        </p:blipFill>
        <p:spPr>
          <a:xfrm>
            <a:off x="755640" y="364500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5" name="图片 22529" descr=""/>
          <p:cNvPicPr/>
          <p:nvPr/>
        </p:nvPicPr>
        <p:blipFill>
          <a:blip r:embed="rId1"/>
          <a:stretch/>
        </p:blipFill>
        <p:spPr>
          <a:xfrm>
            <a:off x="361800" y="814320"/>
            <a:ext cx="8420400" cy="52293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1476360" y="1916280"/>
            <a:ext cx="504720" cy="44892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1476360" y="28098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1403280" y="376092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1403280" y="46386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6"/>
          <a:stretch/>
        </p:blipFill>
        <p:spPr>
          <a:xfrm>
            <a:off x="1476360" y="547380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3" name="图片 21505" descr=""/>
          <p:cNvPicPr/>
          <p:nvPr/>
        </p:nvPicPr>
        <p:blipFill>
          <a:blip r:embed="rId1"/>
          <a:stretch/>
        </p:blipFill>
        <p:spPr>
          <a:xfrm>
            <a:off x="195120" y="1743120"/>
            <a:ext cx="8753760" cy="3371760"/>
          </a:xfrm>
          <a:prstGeom prst="rect">
            <a:avLst/>
          </a:prstGeom>
          <a:ln w="0">
            <a:noFill/>
          </a:ln>
        </p:spPr>
      </p:pic>
      <p:sp>
        <p:nvSpPr>
          <p:cNvPr id="1034" name="直接连接符 21506"/>
          <p:cNvSpPr/>
          <p:nvPr/>
        </p:nvSpPr>
        <p:spPr>
          <a:xfrm>
            <a:off x="2987640" y="3141720"/>
            <a:ext cx="1944720" cy="16556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直接连接符 21507"/>
          <p:cNvSpPr/>
          <p:nvPr/>
        </p:nvSpPr>
        <p:spPr>
          <a:xfrm flipV="1">
            <a:off x="3348000" y="3141360"/>
            <a:ext cx="1655640" cy="8636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直接连接符 21508"/>
          <p:cNvSpPr/>
          <p:nvPr/>
        </p:nvSpPr>
        <p:spPr>
          <a:xfrm flipV="1">
            <a:off x="3490920" y="4005000"/>
            <a:ext cx="1512720" cy="8636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9" name="图片 20481" descr=""/>
          <p:cNvPicPr/>
          <p:nvPr/>
        </p:nvPicPr>
        <p:blipFill>
          <a:blip r:embed="rId1"/>
          <a:stretch/>
        </p:blipFill>
        <p:spPr>
          <a:xfrm>
            <a:off x="109440" y="1724040"/>
            <a:ext cx="8925120" cy="34099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1187280" y="285264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3" name="图片 8193" descr=""/>
          <p:cNvPicPr/>
          <p:nvPr/>
        </p:nvPicPr>
        <p:blipFill>
          <a:blip r:embed="rId1"/>
          <a:stretch/>
        </p:blipFill>
        <p:spPr>
          <a:xfrm>
            <a:off x="490680" y="836640"/>
            <a:ext cx="8162640" cy="58104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826920" y="83664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826920" y="443700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8" name="图片 9217" descr=""/>
          <p:cNvPicPr/>
          <p:nvPr/>
        </p:nvPicPr>
        <p:blipFill>
          <a:blip r:embed="rId1"/>
          <a:stretch/>
        </p:blipFill>
        <p:spPr>
          <a:xfrm>
            <a:off x="476280" y="752400"/>
            <a:ext cx="8191440" cy="57722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826920" y="76500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3"/>
          <a:stretch/>
        </p:blipFill>
        <p:spPr>
          <a:xfrm>
            <a:off x="826920" y="430704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53" name="组合 10244"/>
          <p:cNvGrpSpPr/>
          <p:nvPr/>
        </p:nvGrpSpPr>
        <p:grpSpPr>
          <a:xfrm>
            <a:off x="395280" y="703440"/>
            <a:ext cx="7412040" cy="6038640"/>
            <a:chOff x="395280" y="703440"/>
            <a:chExt cx="7412040" cy="6038640"/>
          </a:xfrm>
        </p:grpSpPr>
        <p:pic>
          <p:nvPicPr>
            <p:cNvPr id="1054" name="图片 10242" descr=""/>
            <p:cNvPicPr/>
            <p:nvPr/>
          </p:nvPicPr>
          <p:blipFill>
            <a:blip r:embed="rId1"/>
            <a:stretch/>
          </p:blipFill>
          <p:spPr>
            <a:xfrm>
              <a:off x="395280" y="703440"/>
              <a:ext cx="5200560" cy="63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5" name="图片 10243" descr=""/>
            <p:cNvPicPr/>
            <p:nvPr/>
          </p:nvPicPr>
          <p:blipFill>
            <a:blip r:embed="rId2"/>
            <a:stretch/>
          </p:blipFill>
          <p:spPr>
            <a:xfrm>
              <a:off x="1187280" y="1484280"/>
              <a:ext cx="6620040" cy="5257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6" name="Picture 1" descr=""/>
          <p:cNvPicPr/>
          <p:nvPr/>
        </p:nvPicPr>
        <p:blipFill>
          <a:blip r:embed="rId3"/>
          <a:stretch/>
        </p:blipFill>
        <p:spPr>
          <a:xfrm>
            <a:off x="2411280" y="304020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4"/>
          <a:stretch/>
        </p:blipFill>
        <p:spPr>
          <a:xfrm>
            <a:off x="6877080" y="4624560"/>
            <a:ext cx="504720" cy="4489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5"/>
          <a:stretch/>
        </p:blipFill>
        <p:spPr>
          <a:xfrm>
            <a:off x="6877080" y="54021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6"/>
          <a:stretch/>
        </p:blipFill>
        <p:spPr>
          <a:xfrm>
            <a:off x="5219640" y="619452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2" name="图片 12289" descr=""/>
          <p:cNvPicPr/>
          <p:nvPr/>
        </p:nvPicPr>
        <p:blipFill>
          <a:blip r:embed="rId1"/>
          <a:stretch/>
        </p:blipFill>
        <p:spPr>
          <a:xfrm>
            <a:off x="1876320" y="1662120"/>
            <a:ext cx="53913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65" name="组合 11267"/>
          <p:cNvGrpSpPr/>
          <p:nvPr/>
        </p:nvGrpSpPr>
        <p:grpSpPr>
          <a:xfrm>
            <a:off x="250920" y="115920"/>
            <a:ext cx="8478720" cy="6553080"/>
            <a:chOff x="250920" y="115920"/>
            <a:chExt cx="8478720" cy="6553080"/>
          </a:xfrm>
        </p:grpSpPr>
        <p:pic>
          <p:nvPicPr>
            <p:cNvPr id="1066" name="图片 11265" descr=""/>
            <p:cNvPicPr/>
            <p:nvPr/>
          </p:nvPicPr>
          <p:blipFill>
            <a:blip r:embed="rId1"/>
            <a:stretch/>
          </p:blipFill>
          <p:spPr>
            <a:xfrm>
              <a:off x="414360" y="725400"/>
              <a:ext cx="8315280" cy="594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7" name="图片 11266" descr=""/>
            <p:cNvPicPr/>
            <p:nvPr/>
          </p:nvPicPr>
          <p:blipFill>
            <a:blip r:embed="rId2"/>
            <a:stretch/>
          </p:blipFill>
          <p:spPr>
            <a:xfrm>
              <a:off x="250920" y="115920"/>
              <a:ext cx="632448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8:56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